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93D4-AE4B-4CF5-920A-470BF078D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DBA7-7871-46E3-8E00-74C7B48E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B254-0630-4781-9948-5EA0B545B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DC14-6DFE-493A-BC42-8286832C4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9221-EF67-47F2-8037-834DD98F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954A-CF6A-4378-8AB9-20BF7A6D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37CB-E393-454B-8A35-2BD13E9B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6838-F136-4C25-BDF6-22BD67BD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54A7-7D49-4523-8D6C-508B9D7E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EE3E-9A4F-46D1-947C-38132C8C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4173-B08C-4F0D-B64E-FB373497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E71E-E966-4741-8D89-0016D217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7A60A-977E-4C26-9FE4-38EFA7876AE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haltsplatzhalter 4" descr=""/>
          <p:cNvPicPr/>
          <p:nvPr/>
        </p:nvPicPr>
        <p:blipFill>
          <a:blip r:embed="rId1"/>
          <a:stretch/>
        </p:blipFill>
        <p:spPr>
          <a:xfrm>
            <a:off x="84240" y="404640"/>
            <a:ext cx="8975520" cy="629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45:44Z</dcterms:modified>
  <cp:revision>17</cp:revision>
  <dc:subject/>
  <dc:title>Folie 1</dc:title>
</cp:coreProperties>
</file>